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8B3-B7F2-4139-99E5-032B5758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B9B-0AC5-464A-AF09-9B68DDF6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4DF9-BDD9-406F-A2EC-D7B1D6B1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9C4-84B5-421D-8794-C3F29298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B457-B192-4788-9E1E-206CEBF8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5DBE-D522-42D1-9C26-2F29F3D4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2B72-926B-4538-B213-675E25D6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02D8-889F-47AF-ADBE-6D9199F2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929D-9A63-47BD-BF67-7192288F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E0AA-E09C-4571-995E-EB88EF4C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E0C4-1B09-4FE8-8742-2E2AA4D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829-B73C-4652-A3CD-BA2C245B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95F2-6AAF-4258-B480-A4F238F4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14A1-A4E0-47BC-A65B-8EBA1D8D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781A-B147-4B9A-9E42-64154F94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D7DD-B64B-4CA8-B631-BF0FC10F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7EE9-5DCB-44A2-88AD-BEDD353E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442-D8A2-463B-82F9-E59D9F57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0CB-A271-4AA8-AC35-7A18F29B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CA3-82CC-44E8-BC7A-D3401AC0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8E4-8B37-4ACC-8B66-005A620A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3E3-4431-4DA5-BFB6-43FA5B5F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C19-A16F-4DE9-97EC-8CD9EE3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B54-6C25-4260-8CEF-18CD877A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9829-ACF2-4F3C-9799-1B9DAFDF24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881D-078E-4F5F-88C4-B4068BCB24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b7"/>
                </a:solidFill>
                <a:latin typeface="Allegro BT"/>
              </a:rPr>
              <a:t>ALTE ROMANE  REALISTE INTERBELICE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43040" y="4162320"/>
            <a:ext cx="6228000" cy="9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b7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b7"/>
                </a:solidFill>
                <a:latin typeface="Arial Black"/>
              </a:rPr>
              <a:t>Examenul de bacalaureat 2012</a:t>
            </a:r>
            <a:br>
              <a:rPr sz="1000"/>
            </a:br>
            <a:r>
              <a:rPr b="1" lang="ro-RO" sz="1000" spc="-1" strike="noStrike">
                <a:solidFill>
                  <a:srgbClr val="ffffb7"/>
                </a:solidFill>
                <a:latin typeface="Arial Black"/>
              </a:rPr>
              <a:t>Proba de evaluare a competenţelor digitale</a:t>
            </a:r>
            <a:r>
              <a:rPr b="1" lang="en-US" sz="1000" spc="-1" strike="noStrike">
                <a:solidFill>
                  <a:srgbClr val="ffffb7"/>
                </a:solidFill>
                <a:latin typeface="Arial Black"/>
              </a:rPr>
              <a:t> – document de lucru</a:t>
            </a:r>
            <a:endParaRPr b="1" lang="en-US" sz="1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ffffff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ffffb7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b7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0</cp:lastModifiedBy>
  <dcterms:modified xsi:type="dcterms:W3CDTF">2012-04-12T08:32:19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